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592-F616-40F6-8E90-3548E02FDB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оактивные превращени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адиоактивного 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D571-7160-42DB-8B30-AACBED6ADF6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ериод полураспа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 вида ядер период полураспада является строго постоянной велич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A16D-D23A-4202-B1E5-468D34F00FE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 радиоактивно-го рас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t/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.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 в             начальный  момент време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время распада.                                  Т–период полу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3EA0-B861-4739-B421-AF4C6F9AFFD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время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C096-C5C7-4FA0-A41E-79C84361E4E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исследований радио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2D0D-AAFD-447F-8309-A5F658A070F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х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27D2-8E9D-46B3-95A2-A9884A67DDD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Резерфор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D467-1C1F-4A98-B606-31668D2D542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DDE1-635A-416C-8D8F-2737492F32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к которому пришёл Резерф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543E-9815-4066-A128-5E5487BE871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мещения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ф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льфа-распаде ядро теряет положительный заряд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 масса его убывает приблизительно на четыре атомных единицы мас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элемент сме-щается на две клетки к на-чалу периодической сис-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EE56-1B83-4173-AEF8-D11E867A185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о смещения при бет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бет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та-распада элемент смещается на одну клетку ближе к концу периодическ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7DEF-F6B4-42A9-80C3-6EE1E78C812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 из прав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D91A-5CAE-4A6B-B722-59C4E3B8205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777-6EC0-4759-A8FE-D02DD406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87D-0253-4053-AC02-F9CA3BF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AD0-5233-41DA-9380-92C3E6B0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BCC-2176-44DA-93DA-3066D19F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2708-55AF-4129-A069-69FE331B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CD92-C3BA-4DC5-9B05-85A39C60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ACC6-66C9-4CAC-8BF0-58C7514F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3C34-970B-48B9-A5EA-DA2414A7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CE76-7FD4-48EB-9DD3-4F5E0467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DAD4-B8D3-4E91-A153-DCDEA41D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A5E1-13F9-4C94-AF90-49575811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10F-835C-4F4A-A03D-9411D855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1601-FCFA-43F2-A349-297D4F0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7113-DE22-4737-B360-D4839DA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077D-375C-4405-90B4-1EEC9D9C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5B53-4C9F-408E-B906-9861F6E7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E859-EC2A-4BE1-9086-FEFA6A50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E96-9A72-4209-8673-5D5859F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E09-936C-40D8-BE3C-7657FE5C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0DF-9877-474F-A8F3-A5FB98DB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C5E-E7D8-4019-BB3E-0E65E228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5E3-4F56-4DC3-94AA-AAC8AEA3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9D3-857B-4897-8C19-F2955D7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5A0-4417-49ED-868A-6FF243F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9AAC-3834-4079-9694-1EDAF3260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232-CC7B-49CA-9F42-D0B9320AB7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Радиоактивные превращения .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ahoma"/>
              </a:rPr>
              <a:t>Закон радиоактивного распад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Что такое период полураспада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Для каждого вида ядер период полураспада является строго постоянн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Закон радиоактивно-го распада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=N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t/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.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 в             начальный  момент времен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время распада.                                  Т–период полурасп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Среднее время жизн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едыстория исследований радиоактивност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ехи истори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E01753_"/>
          <p:cNvPicPr/>
          <p:nvPr/>
        </p:nvPicPr>
        <p:blipFill>
          <a:blip r:embed="rId2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следования Резерфорда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" name="Picture 8" descr="Резерфорд"/>
          <p:cNvPicPr/>
          <p:nvPr/>
        </p:nvPicPr>
        <p:blipFill>
          <a:blip r:embed="rId1"/>
          <a:stretch/>
        </p:blipFill>
        <p:spPr>
          <a:xfrm>
            <a:off x="826920" y="2421000"/>
            <a:ext cx="311976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ыт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HM00361_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292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ывод, к которому пришёл Резерфорд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авило смещения при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льфа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альфа-распаде ядро теряет положительный заряд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 масса его убывает приблизительно на четыре атомных единицы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элемент сме-щается на две клетки к на-чалу периодической сис-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2" descr="Менделеев"/>
          <p:cNvPicPr/>
          <p:nvPr/>
        </p:nvPicPr>
        <p:blipFill>
          <a:blip r:embed="rId1"/>
          <a:stretch/>
        </p:blipFill>
        <p:spPr>
          <a:xfrm>
            <a:off x="5292720" y="2276640"/>
            <a:ext cx="3181320" cy="353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Правило смещения при бетта</a:t>
            </a: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бет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тта-распада элемент смещается на одну клетку ближе к концу периодической систе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Вывод из правил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54:31Z</dcterms:created>
  <dc:creator>User</dc:creator>
  <dc:description/>
  <dc:language>en-US</dc:language>
  <cp:lastModifiedBy>LEGION</cp:lastModifiedBy>
  <dcterms:modified xsi:type="dcterms:W3CDTF">2015-05-01T11:11:17Z</dcterms:modified>
  <cp:revision>76</cp:revision>
  <dc:subject/>
  <dc:title>Радиоактивные превращения .</dc:title>
</cp:coreProperties>
</file>